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F5F-1A9C-4488-AA8B-FFB2FEA1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53C-3BC4-418E-8B76-2F1A5FC2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380-8B78-4310-94E2-2FFA4617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017-B9E1-456C-8D19-C4F1E13E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F303-93F0-4371-80B6-B3FC3E2D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8700-EB3B-4661-8C38-840595E7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008-7D55-4447-A934-6239227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3264-C111-43DB-A77A-F8BDADA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5059-F115-4A8A-9FB7-172A95C0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36AC-55D2-47E3-9434-1CF2EC7E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8B37-677D-4AC6-9719-AC18B22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D05-7E27-4BEF-82A5-FEB74EB5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3F2A-8DF8-49F9-A36A-625F8FF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242A-6EAF-43A5-9B80-DAB05205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AEBD-3A28-4470-B4B6-E72D099F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576D-010B-4A6F-82E6-E4C3EE01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971-4A3B-483E-81A3-957C1222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421-BE8B-45D0-9A19-EDDD8C8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D79-8293-4FFB-AE3E-002741C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EED-1AD2-466F-891A-CAAF7AB2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CCB-E1F2-455E-9AE2-34DE367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BA3-9E5E-483E-A3ED-C8B2DC30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3A1-66A7-4E1D-91C5-136D203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A77-080F-4CDC-A01E-E40EAAD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53BB-5DB1-4892-B49B-FDD9B4F5D03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CF1A-866D-488B-96AF-CAED2B1F96A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971640" y="549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Оценка антропогенного воздействия на воздушный бассейн г.Барнау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00720" y="4292640"/>
            <a:ext cx="43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66ccff"/>
                </a:solidFill>
                <a:latin typeface="Tahoma"/>
              </a:rPr>
              <a:t>Выполнил: Казанцев Андр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66ccff"/>
                </a:solidFill>
                <a:latin typeface="Tahoma"/>
              </a:rPr>
              <a:t>ученик 11 б 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66ccff"/>
                </a:solidFill>
                <a:latin typeface="Tahoma"/>
              </a:rPr>
              <a:t>МОУ О(с) ОШ №6 г.Барнау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MPj04331320000[1]"/>
          <p:cNvPicPr/>
          <p:nvPr/>
        </p:nvPicPr>
        <p:blipFill>
          <a:blip r:embed="rId1"/>
          <a:stretch/>
        </p:blipFill>
        <p:spPr>
          <a:xfrm>
            <a:off x="1371600" y="3068640"/>
            <a:ext cx="3560760" cy="3560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908000" y="54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Пути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00000" y="1341360"/>
            <a:ext cx="7417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улучшение качества дорожного полот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увеличение количества зеленых насаждений на оживленных улицах и магистрал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создание новых двигателей, использующих экологически чистые продукт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хорошая организация общественного транспорта и более строгие требования к экологическим характеристикам автомоби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ccff"/>
                </a:solidFill>
                <a:latin typeface="Arial"/>
              </a:rPr>
              <a:t>контроль со стороны службы ГИБДД, призванной контролировать техническое состояние автомобиля, должен быть ужесточ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543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оза ветров г.Барнаул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1"/>
          <a:stretch/>
        </p:blipFill>
        <p:spPr>
          <a:xfrm>
            <a:off x="781200" y="1352520"/>
            <a:ext cx="7941960" cy="551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F:\2011-01-20\Копия Копия Scan10003.JPG"/>
          <p:cNvPicPr/>
          <p:nvPr/>
        </p:nvPicPr>
        <p:blipFill>
          <a:blip r:embed="rId1"/>
          <a:stretch/>
        </p:blipFill>
        <p:spPr>
          <a:xfrm>
            <a:off x="357120" y="220680"/>
            <a:ext cx="8501040" cy="6291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ccff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547640" y="9079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Цель ис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42920" y="1916280"/>
            <a:ext cx="7561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Оценить</a:t>
            </a: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антропогенную нагрузку на атмосферу г. Барнаула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476280"/>
            <a:ext cx="78487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Задачи исследовани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1. Проанализировать современное экологическое состояние атмосферы г. Барнау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2. Оценить экологическую опасность 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3. Составить карта - схему с выявлением  районов с разным уровнем загрязн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66ccff"/>
                </a:solidFill>
                <a:latin typeface="Arial"/>
              </a:rPr>
              <a:t>4.Наметить пути решения этой экологической пробл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187280" y="90792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Формы исслед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00000" y="1341360"/>
            <a:ext cx="824400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2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Изучил  литературу по данной те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Запросил информацию в  ГИБДД  г.Барнаула по количеству автотранспорта, находящегося на территории г.Барнау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ccff"/>
                </a:solidFill>
                <a:latin typeface="Arial"/>
              </a:rPr>
              <a:t>Посетил </a:t>
            </a: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лабораторию мониторинга окружающей среды Госкомгидромета, ознакомился с результатами проб возду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Систем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Сравнительно - географиче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Arial"/>
              </a:rPr>
              <a:t>Картографиче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86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66ccff"/>
                </a:solidFill>
                <a:latin typeface="Verdana"/>
              </a:rPr>
              <a:t>Основными  причинами загрязнения воздуха являются предприятия химической промышленности, электроэнергетики, черной металлургии, машиностроения. Особенный вред воздуху наносит Барнаульские ТЭЦ- 1,2,3,  работающие на угле.  Немалый вред экологии приносят автомобили, выбросы вредных веществ которых составляют более 45% от общего загрязнения воздух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j0285360"/>
          <p:cNvPicPr/>
          <p:nvPr/>
        </p:nvPicPr>
        <p:blipFill>
          <a:blip r:embed="rId1"/>
          <a:stretch/>
        </p:blipFill>
        <p:spPr>
          <a:xfrm>
            <a:off x="7056360" y="4508640"/>
            <a:ext cx="208764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0708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Загрязненность барнаульского воздуха превышает нормы ПДК. И тому есть несколько прич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о-первых, Барнаул - сложившийся город, застройка которого велась до принятия современных экологических норм. Поэтому зачастую заводы размещаются вплотную к жилому сектору, без необходимых санитарно-защитных зон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о-вторых, на многих промышленных предприятиях отсутствуют очистные сооружения и используются устаревшие технологии производств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Tahoma"/>
              </a:rPr>
              <a:t>В-третьих,  современные методики работы внедряются медлен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ccff"/>
                </a:solidFill>
                <a:latin typeface="Tahoma"/>
              </a:rPr>
              <a:t>Четвертая причина повышенной загрязненности воздуха - ускоренный рост парка автомашин. На 1 декабря 2009 года в городе зарегистрировано 190 тыс. автомобилей. И, наконец, не нужно забывать, что центральная часть Барнаула находится на дне своеобразной котловины. Поэтому для нашего города характерны штили, которые затрудняют рассеивание вредных веществ и способствуют их накоплению в городской атмосфер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66ccff"/>
                </a:solidFill>
                <a:latin typeface="Tahoma"/>
              </a:rPr>
              <a:t>Наблюдательные посты находятся на пересечении улиц М.Прудской и Пролетарской; улиц Э.Алексеевой и П.Сухова; Георгиева и 50 лет СССР; в районе Детской краевой больницы; на пересечении улиц Профинтерна и Ленин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SL373596"/>
          <p:cNvPicPr/>
          <p:nvPr/>
        </p:nvPicPr>
        <p:blipFill>
          <a:blip r:embed="rId1"/>
          <a:stretch/>
        </p:blipFill>
        <p:spPr>
          <a:xfrm>
            <a:off x="826920" y="404640"/>
            <a:ext cx="7829640" cy="6120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900000" y="5805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боратория мониторинга загрязнения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4:25:39Z</dcterms:created>
  <dc:creator>Елена</dc:creator>
  <dc:description/>
  <dc:language>en-US</dc:language>
  <cp:lastModifiedBy>!!</cp:lastModifiedBy>
  <dcterms:modified xsi:type="dcterms:W3CDTF">2011-01-26T03:27:20Z</dcterms:modified>
  <cp:revision>30</cp:revision>
  <dc:subject/>
  <dc:title>Слайд 1</dc:title>
</cp:coreProperties>
</file>